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0B24-3030-469F-90B8-0441BE63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: if genes are located on separate chromosomes, they will be inherited independently of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reuniversity.grkraj.org/html/9_GENETIC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tutorvista.com/topic/how-to-double-cros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corner.com/bio2/genetics/notes_dihybr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Punnett_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B63-2D5F-407C-B058-91F5A2AF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A13-453B-4BE8-B5AD-53EFC2EA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725-43A3-46B9-9104-D4408681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390-3D86-4C31-9EE5-C2ACD58B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E54-2C9F-470B-9E6D-E9C59A9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1A6-B000-4372-8F65-C1D49174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56E-3253-4C5C-A6C0-B7B28E33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2E6-B349-4377-A1D4-7F4A60F1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961-006E-4D65-B96A-727C44A3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852-0AAD-42E6-A77E-8A044E6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542-6EAA-4F76-A6C7-0C0913A8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814-C02E-47A8-AB25-2996ADF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EB25-8EF2-4B6D-A975-22F04F345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trait Inheritance (5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el’s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udied the inheritance of 2 separate trait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hybrid cro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8240" y="1981080"/>
            <a:ext cx="4726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type of a pure-breeding plant with round yellow seeds is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type of a pure-breeding plant with green wrinkled seeds i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 - 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65400" y="380880"/>
            <a:ext cx="4887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one large Punnett square, you could use a Punnett square for each 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probabilities of each trait to get your phenotype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62080" y="609480"/>
            <a:ext cx="6819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hybrid Crosse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ke up the sheet &amp; Practice #1 on page 2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39:20Z</dcterms:created>
  <dc:creator>rubina khan</dc:creator>
  <dc:description/>
  <dc:language>en-US</dc:language>
  <cp:lastModifiedBy>rubina khan</cp:lastModifiedBy>
  <dcterms:modified xsi:type="dcterms:W3CDTF">2014-10-24T01:06:03Z</dcterms:modified>
  <cp:revision>46</cp:revision>
  <dc:subject/>
  <dc:title>Genetic Processes</dc:title>
</cp:coreProperties>
</file>